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CEA3-26CC-40F4-83DD-78C5E5F9D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B0E8-40F7-49B3-A9C2-57ABFB505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1380-237D-410B-81DC-3E6094E7E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F9E1-C55F-4780-8D5F-AD6581857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BDD70-EB88-4562-988B-CED4B8436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2955A-0366-49B2-AEE9-04ED509D4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0E60F-08D8-4702-A267-D0608493E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2253B-5B7D-4E3D-8EEE-44AADB552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FB017-45CC-45A1-80D9-EB64CD4B2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29590-D9B3-43A6-B94E-B89DEE3D3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9C27B-0D9A-4978-83EF-5778DDB63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99F0-140B-47A8-9EE8-F2B7B60BA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59440-2086-4521-82E2-0A1AA34AF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972A7-E0B0-43D1-AB71-B08742460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96446-BDC5-4123-A900-6246FB4C7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ECAF0-307D-4591-9245-C32640E5A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6EC8E-56C8-41A6-90EF-97FDB819F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52B0-28BC-4A7E-8065-C38A9F150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DB6C-997E-45AF-808D-9E917E7DA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F394-93B8-4E23-A03C-F3DE6C52C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9E36-8464-4531-B1AD-E43450C2F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C56A-7439-429D-AFF7-ACDC6F480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1082-88CA-41CD-AC05-C4EB195F4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0E99-4DCF-4F4C-BFA0-15DE2CA84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5E77E-E958-4948-A8BA-A489B357E86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CD202-5749-491B-8267-2CFC1630F7B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 rot="19542000"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Impact"/>
              </a:rPr>
              <a:t>Evangelizando</a:t>
            </a: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83" name="Picture 5" descr="Copy of Chile Union ChM Advisory 133"/>
          <p:cNvPicPr/>
          <p:nvPr/>
        </p:nvPicPr>
        <p:blipFill>
          <a:blip r:embed="rId1"/>
          <a:stretch/>
        </p:blipFill>
        <p:spPr>
          <a:xfrm>
            <a:off x="4716360" y="0"/>
            <a:ext cx="1752840" cy="1170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children of the world"/>
          <p:cNvPicPr/>
          <p:nvPr/>
        </p:nvPicPr>
        <p:blipFill>
          <a:blip r:embed="rId2"/>
          <a:stretch/>
        </p:blipFill>
        <p:spPr>
          <a:xfrm rot="19542000">
            <a:off x="2000160" y="3259080"/>
            <a:ext cx="5867640" cy="696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C:\Users\FerreyraMe\Documents\diseños PP\LOGOS_ADVENTISTAS\LOGOS_DEPTO\MINISTÉRIO_CRIANÇA\logo_Trab_esp.jpg"/>
          <p:cNvPicPr/>
          <p:nvPr/>
        </p:nvPicPr>
        <p:blipFill>
          <a:blip r:embed="rId3"/>
          <a:stretch/>
        </p:blipFill>
        <p:spPr>
          <a:xfrm>
            <a:off x="34920" y="-27000"/>
            <a:ext cx="4681440" cy="1197000"/>
          </a:xfrm>
          <a:prstGeom prst="rect">
            <a:avLst/>
          </a:prstGeom>
          <a:ln w="0">
            <a:noFill/>
          </a:ln>
        </p:spPr>
      </p:pic>
      <p:sp>
        <p:nvSpPr>
          <p:cNvPr id="86" name="TextBox 8"/>
          <p:cNvSpPr/>
          <p:nvPr/>
        </p:nvSpPr>
        <p:spPr>
          <a:xfrm>
            <a:off x="7872840" y="6397560"/>
            <a:ext cx="1221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700" spc="-1" strike="noStrike">
                <a:solidFill>
                  <a:srgbClr val="000000"/>
                </a:solidFill>
                <a:latin typeface="Arial"/>
              </a:rPr>
              <a:t>M. Ferreyr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700" spc="-1" strike="noStrike">
                <a:solidFill>
                  <a:srgbClr val="000000"/>
                </a:solidFill>
                <a:latin typeface="Arial"/>
              </a:rPr>
              <a:t>Ministerio Personal - D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700" spc="-1" strike="noStrike">
                <a:solidFill>
                  <a:srgbClr val="000000"/>
                </a:solidFill>
                <a:latin typeface="Arial"/>
              </a:rPr>
              <a:t>MP-EI 00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  <p:pic>
        <p:nvPicPr>
          <p:cNvPr id="125" name="9 - Cooperación.wmv" descr=""/>
          <p:cNvPicPr/>
          <p:nvPr/>
        </p:nvPicPr>
        <p:blipFill>
          <a:blip r:embed="rId3"/>
          <a:stretch/>
        </p:blipFill>
        <p:spPr>
          <a:xfrm>
            <a:off x="1547640" y="90792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02" dur="indefinite" restart="never" nodeType="tmRoot">
          <p:childTnLst>
            <p:seq>
              <p:cTn id="103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7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  <p:pic>
        <p:nvPicPr>
          <p:cNvPr id="130" name="10 - Da una Sonrisa.wmv" descr=""/>
          <p:cNvPicPr/>
          <p:nvPr/>
        </p:nvPicPr>
        <p:blipFill>
          <a:blip r:embed="rId3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08" dur="indefinite" restart="never" nodeType="tmRoot">
          <p:childTnLst>
            <p:seq>
              <p:cTn id="109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3" dur="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22228b"/>
                </a:solidFill>
                <a:latin typeface="Arial"/>
              </a:rPr>
              <a:t>Requisit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Tener un equipo de 2 a 6 personas capacitada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Buscar un loca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Planear, organizar, preparar bien el programa para la campañ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Hacer una buena promoción</a:t>
            </a:r>
            <a:r>
              <a:rPr b="1" lang="es-PE" sz="3200" spc="-1" strike="noStrike">
                <a:solidFill>
                  <a:srgbClr val="0d0d0d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22228b"/>
                </a:solidFill>
                <a:latin typeface="Arial"/>
              </a:rPr>
              <a:t>Métod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Todo visualizado o ilustrad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Participación plena y continu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Tomar en cuenta la regla 1 x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Variedad, novedad, agilida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Método directo e indirecto, cambiar apropiadament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Uso de los cinco sentido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22228b"/>
                </a:solidFill>
                <a:latin typeface="Arial"/>
              </a:rPr>
              <a:t>Métod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7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Póngale un nombre a la campañ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8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Mucha oració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9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Escoger el tema central y enfatizar cada día ese tem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10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Decidir la extensión del program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11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Haga un programa Cristo céntrico y               Niño céntric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 – La Clave Secreta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Modelo – Temari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l libro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Honradez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cortesía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l servicio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Abnegación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verdad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J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l Perdón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V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obediencia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- Carta de Dios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Modelo-Fin de sema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Este modelo lo puede usar en coordinación con la escuela e invitar a los padres de famili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Historia del libro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J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Conociendo al Autor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V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Carta de Dios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Modelo-Music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Escoja un canto y sobre el maneje el temario para la seman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Ejemplo 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Ejemplo 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1600" spc="-1" strike="noStrike">
                <a:solidFill>
                  <a:srgbClr val="606060"/>
                </a:solidFill>
                <a:latin typeface="Arial"/>
              </a:rPr>
              <a:t>Trabajo en grupos….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606060"/>
                </a:solidFill>
                <a:latin typeface="Arial"/>
              </a:rPr>
              <a:t>	</a:t>
            </a:r>
            <a:r>
              <a:rPr b="1" lang="es-PE" sz="1600" spc="-1" strike="noStrike">
                <a:solidFill>
                  <a:srgbClr val="606060"/>
                </a:solidFill>
                <a:latin typeface="Arial"/>
              </a:rPr>
              <a:t>Prepare un temario basado en el canto que acaba de escucha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  <p:pic>
        <p:nvPicPr>
          <p:cNvPr id="111" name="LA SEMANA.mp3" descr=""/>
          <p:cNvPicPr/>
          <p:nvPr/>
        </p:nvPicPr>
        <p:blipFill>
          <a:blip r:embed="rId3"/>
          <a:stretch/>
        </p:blipFill>
        <p:spPr>
          <a:xfrm>
            <a:off x="4859280" y="2349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2" name="gozo_culto_joe.mp3" descr=""/>
          <p:cNvPicPr/>
          <p:nvPr/>
        </p:nvPicPr>
        <p:blipFill>
          <a:blip r:embed="rId4"/>
          <a:stretch/>
        </p:blipFill>
        <p:spPr>
          <a:xfrm>
            <a:off x="4859280" y="2852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41015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195156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Nuevas iniciativ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Discipulado infanti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Dentro de la Igles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Poem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Orquesta infanti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Rim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Jueg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Ofrend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Modelito bíblico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Canto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Predican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Adivinanz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March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Nuevas iniciativ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Discipulado infantil fuera de la Igles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Campaña de salu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Campaña de limpiez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Visita a un asil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606060"/>
                </a:solidFill>
                <a:latin typeface="Arial"/>
              </a:rPr>
              <a:t>La idea es que los niños participen de cualquier actividad que tenga que ver con la testificación y para que pierdan el miedo a la gente, hacerlos mas sociabl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5T13:46:03Z</dcterms:created>
  <dc:creator>Melchor Ferreyra</dc:creator>
  <dc:description/>
  <dc:language>en-US</dc:language>
  <cp:lastModifiedBy>Melchor Ferreyra</cp:lastModifiedBy>
  <dcterms:modified xsi:type="dcterms:W3CDTF">2012-06-30T02:56:07Z</dcterms:modified>
  <cp:revision>3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0251033</vt:lpwstr>
  </property>
</Properties>
</file>